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FCB9-474E-46C7-A266-7B2E98488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5E68-8539-4590-9C0B-86A5219264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B20-5097-481E-8363-B995EC84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FC43-9EEF-4917-8323-B740FCF2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187-E8F8-436B-B8B1-483C3E8D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FFC8-3253-486A-A608-E99E5119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B4BB-792B-49A7-B526-FB0D7351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11A7-209E-4DFC-8A60-44B4A9E4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7A94-8802-4FB1-86ED-028F6985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41EC-1544-4CA9-8EAD-2F83EB73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1DE8-8ABB-4FCF-B329-73AE3CBB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D414-6814-469F-9622-A43366B8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8B3A-4394-44C9-8563-E84ABB7F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34F-FC54-49B2-AEAF-CAB6897C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C4A0-DFA4-424C-A07F-E68E2F53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C238-9F13-45EA-828B-1490D3A5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5DF6-B41B-4507-B4A2-BC995C5D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B126-3D70-41C1-967B-B9E8FDBA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6FD7-CE93-42D1-A496-639FE2CC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30D85-C8E8-437C-A18B-4DED77DC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4BD7E-C923-48AD-85AC-8CE9EA28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257F4-B4B2-4112-B723-C37090DC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42345-9231-4780-9006-9270C57F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8A5C3-1410-43B3-8FD1-A65A3DB7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CA8-4C1A-41FB-AC97-F1C32918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124B2-8BED-4A0D-AE8E-FCB75BAC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30862-901C-4FC9-A0BD-622E463E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631AD-5CC4-4F46-A1A7-2D0A2291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0DD5F-6738-4B48-857C-ED07D9A0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35EE8-74B6-453A-AC22-F7212CCF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731CD-2245-48B3-A4C7-62636B61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2D0CB-0ABE-4442-8870-3FB1BDB6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A70BD-34CD-46FB-8CF9-29CFCB13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A70ED-A591-46C5-A361-215713BF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31682-9930-4610-B987-865E26C6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8569-6EF3-4605-B1B0-5260F2B6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F6925-9683-4D93-A307-A91BC611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633D8-A070-4580-AF90-D6A4C483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83189-AD43-419B-98DE-EC8EB337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A317D-EF86-45CB-8AA9-40D23C80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7F65E-970B-431E-93F1-916D07D3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ED96B-E664-457C-A4B6-045EF895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4C76B-067B-459A-9814-535F2993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9D008-8070-432D-8587-AE6A076F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D9881-710E-446B-805D-1EFC4209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E15D2-E24C-434A-AC43-64BB8285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427-F16F-49E7-B3D5-3CCBEB82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DACCE-2D3A-4A92-8FBD-6932916A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77412-A62A-42ED-868A-3B4304DF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9A132-0B50-4C00-828E-4FF6F6B2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37CCE-EF42-4D27-AE15-710F5F02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D4C90-18E5-4220-A26C-2CD6F7E4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BAA21-7837-46BE-819B-4AA7967F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AEDEF-FD70-4A9A-A3E2-B9745B05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4A4AB-5974-4993-808E-CC78DFB9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76F38-3B8B-4000-92E8-24D8587F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024D5-94DB-4600-822C-2985ECA0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4A08-BB80-4020-8473-B65C5106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D3968-061E-48C8-892E-0AE4E48B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0C45D-0A91-42E1-9E71-335664D1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5108C-71CF-42C1-930C-A5417D3A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F679D-95C4-40E2-94D5-E59857DC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A45E1-49EC-4E3B-96EA-EEB14597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A4D7B-6F9B-4AAA-AF47-D87B77DE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1EB2F-B972-424D-BFF9-1D41F879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04626-C7D5-43A0-83F4-355BDFC5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3322B-CDC7-4D63-AC52-3A768556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AF6C7-6C30-4779-8425-6F7A55DE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058-CB05-4047-A6FD-958F4292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8683B-5CF6-4404-B526-BE655208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8CC9D-EB9B-4F08-9F7A-C49372D1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861BC-7E6E-46FB-B925-5D17DD8A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EE768-0FE8-425B-B2F0-C5516438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885FC-F791-40AA-A94F-C0AA7DBF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026EA-2D6A-42FF-902E-1FCFAB80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4C5F6-A0C8-4124-90A7-4C01D65F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6FC86-CF4E-4B97-B999-BFE68591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23C91-C143-4BAF-A6C8-FBB3F06D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D2B4E-2B17-46B0-B980-6B606A4F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12B-8282-48B2-9B9D-CA17ADFC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6AC4F-8BC3-4430-9C7C-EDE1F725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7598A-9DEF-49E4-A5C0-793431D1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990D5-F825-418E-BBC9-D5B3FC66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D5A4E-CD66-48EB-B33C-B97131D7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048F4-12AA-48D5-92E2-9DB840B7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DAF-A01D-45E7-9F6C-2DCA0A10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6ED9-5B42-43F6-8103-288E766454D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8043-730B-4AA6-800C-E65EEEECD5D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39E4-655B-4595-B202-741D567D1BA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489F-4ED2-403D-A9E2-8C4142CF0F1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10E7-F1F4-42DE-A905-07868C8170E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5D52-794C-4FA7-9474-9EC320565F9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6FC3-3C27-47C4-A77D-869CD797498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Corbel"/>
              </a:rPr>
              <a:t>Static Electricity</a:t>
            </a:r>
            <a:endParaRPr b="0" lang="en-US" sz="8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6" name="Picture 2" descr="C:\Documents and Settings\mkingdon\Local Settings\Temporary Internet Files\Content.IE5\FE298CR5\MCj04314960000[1].png"/>
          <p:cNvPicPr/>
          <p:nvPr/>
        </p:nvPicPr>
        <p:blipFill>
          <a:blip r:embed="rId1"/>
          <a:stretch/>
        </p:blipFill>
        <p:spPr>
          <a:xfrm>
            <a:off x="3429000" y="251460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ubtitle 2"/>
          <p:cNvSpPr/>
          <p:nvPr/>
        </p:nvSpPr>
        <p:spPr>
          <a:xfrm>
            <a:off x="1447920" y="304920"/>
            <a:ext cx="6476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Ques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5"/>
          <p:cNvSpPr/>
          <p:nvPr/>
        </p:nvSpPr>
        <p:spPr>
          <a:xfrm>
            <a:off x="1143000" y="1163520"/>
            <a:ext cx="7238880" cy="69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y do clothes often stick together after they come out of a drier? (this is called “static clin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ive a simple explanation for the cause of lightning.  Use vocabulary from the Static Electricity section in the text and use a drawing in your explan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y does your hair often stand on end after you take off a sweater or wool h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onus: why is there usually more static in the winter time (especially here in Beijing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447560" y="1218960"/>
            <a:ext cx="6476760" cy="990360"/>
          </a:xfrm>
          <a:prstGeom prst="rect">
            <a:avLst/>
          </a:prstGeom>
          <a:noFill/>
          <a:ln w="0">
            <a:noFill/>
          </a:ln>
        </p:spPr>
        <p:txBody>
          <a:bodyPr lIns="10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Electric Charg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1143000" y="2286000"/>
            <a:ext cx="723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lectrons have a negative 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rotons have a positive 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milar charges will b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repelled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(+ &amp; + or – &amp; –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pposite charges will b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attrac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(+ &amp; –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ubtitle 2"/>
          <p:cNvSpPr/>
          <p:nvPr/>
        </p:nvSpPr>
        <p:spPr>
          <a:xfrm>
            <a:off x="1447920" y="1219320"/>
            <a:ext cx="647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Static Electric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5"/>
          <p:cNvSpPr/>
          <p:nvPr/>
        </p:nvSpPr>
        <p:spPr>
          <a:xfrm>
            <a:off x="1143000" y="2286000"/>
            <a:ext cx="723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lectrons in some materials can move from their atoms and collect on other objects.  This will create a negative charge on the new object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tatic Electricity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build-up of charges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n an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ubtitle 2"/>
          <p:cNvSpPr/>
          <p:nvPr/>
        </p:nvSpPr>
        <p:spPr>
          <a:xfrm>
            <a:off x="1447920" y="1219320"/>
            <a:ext cx="647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Electric Fie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1143000" y="22860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s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region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around a charged object where the object’s electric force pushes or pulls other ob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ubtitle 2"/>
          <p:cNvSpPr/>
          <p:nvPr/>
        </p:nvSpPr>
        <p:spPr>
          <a:xfrm>
            <a:off x="1447920" y="1219320"/>
            <a:ext cx="647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Electric For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"/>
          <p:cNvSpPr/>
          <p:nvPr/>
        </p:nvSpPr>
        <p:spPr>
          <a:xfrm>
            <a:off x="1143000" y="22860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t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attraction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repulsion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between electric char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ubtitle 2"/>
          <p:cNvSpPr/>
          <p:nvPr/>
        </p:nvSpPr>
        <p:spPr>
          <a:xfrm>
            <a:off x="1447920" y="1219320"/>
            <a:ext cx="647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Charging by Fri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1143000" y="22860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en 2 object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rub together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, electrons ma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transfer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from one object to the other and create a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ubtitle 2"/>
          <p:cNvSpPr/>
          <p:nvPr/>
        </p:nvSpPr>
        <p:spPr>
          <a:xfrm>
            <a:off x="1447920" y="1219320"/>
            <a:ext cx="647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Charging by Con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5"/>
          <p:cNvSpPr/>
          <p:nvPr/>
        </p:nvSpPr>
        <p:spPr>
          <a:xfrm>
            <a:off x="1143000" y="22860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arges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transferred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between objects that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touching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ubtitle 2"/>
          <p:cNvSpPr/>
          <p:nvPr/>
        </p:nvSpPr>
        <p:spPr>
          <a:xfrm>
            <a:off x="1447920" y="1219320"/>
            <a:ext cx="647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Charging by In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5"/>
          <p:cNvSpPr/>
          <p:nvPr/>
        </p:nvSpPr>
        <p:spPr>
          <a:xfrm>
            <a:off x="1143000" y="22860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Charges are “pushed away”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rom one part of an object because they are repelled by the electric field of another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ubtitle 2"/>
          <p:cNvSpPr/>
          <p:nvPr/>
        </p:nvSpPr>
        <p:spPr>
          <a:xfrm>
            <a:off x="1447920" y="1219320"/>
            <a:ext cx="647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Static Dischar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1143000" y="2286000"/>
            <a:ext cx="723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en a negatively charged object and a positively charged object are brought together, electrons quickly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jump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” to balance the charges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ZAP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1:46:36Z</dcterms:created>
  <dc:creator>Ghost</dc:creator>
  <dc:description/>
  <dc:language>en-US</dc:language>
  <cp:lastModifiedBy>Ghost</cp:lastModifiedBy>
  <dcterms:modified xsi:type="dcterms:W3CDTF">2008-12-10T02:06:53Z</dcterms:modified>
  <cp:revision>5</cp:revision>
  <dc:subject/>
  <dc:title>Slide 1</dc:title>
</cp:coreProperties>
</file>